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1C172-A8CE-4A3F-84E5-1B6ED6D2D5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34026-F17A-4DC1-AD79-6873416F5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freq vocab and concept vo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VT later in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D7D13-61EE-4B2A-BEC7-AF76002F5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5D146-9535-4ECA-8A9B-866201A82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llables- part of a word that contains a vowel or vowel 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sets &amp; Rimes-initial consonant or cluster followed by vowel /spelling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nemes- smallest bit of sound with a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ssess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B6833-A436-49F4-8856-828837967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hat principles of the Core Measures Get at these descriptors and which do no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40F8D-4F76-4F4B-B236-BE3475A69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? I like drinking lemonade with ice in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needed to deci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1EC7E-51CC-4FA4-88F0-2CE6946ED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ment 1- Response from research: oral language develops naturally from birth; however, not all children will learn to read without proper instruction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Lyon, 1998; Pressley, 200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ment 2 Response from research: Although dyslexia is influenced by genetics, most children with dyslexia can learn to read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Fletcher, Lyon, Fuchs, &amp; Barnes, 2007; Olson, 200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needs attention in reading that isn’t necessary in speech: concept of letter vs word, directionality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Assessments are used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D25B1-67B2-405E-92FC-135A1E5DC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pages 250-257 Jigsaw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36568-D06A-4C09-9CCE-808A95844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next slide for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5F295-ADE8-470F-8C56-BD07D5BA0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321-A199-45A8-B0E4-45288804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62F-281B-4678-B290-107C390D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68EA-656A-4675-9643-1D2063D4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64AE-7EDA-481B-8C00-4D6031BC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5B8-5D20-419C-A439-49ED9F39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EF9-03CE-49A6-9DD4-349FFE3F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85D-02DD-4121-A0BC-6532B6ED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3D5-00FE-47BA-8A13-42BD69FD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6CE-4BD4-4B70-B2A7-97B6B6BF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3C0-695F-4E08-84CA-04F98517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146-4D58-416F-9BC2-5FABAAD6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76E-15EE-4AC2-AD3A-E973E3A4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2FEBF-C7B1-4292-B1FF-C1B1C85773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B8930-5C57-4F8A-83FB-FFC6F334C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G 56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um in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undations of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617840" y="763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39640" y="762120"/>
            <a:ext cx="8210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2.  Vocabulary and Backgrou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santa cruz home visits 052.jpg"/>
          <p:cNvPicPr/>
          <p:nvPr/>
        </p:nvPicPr>
        <p:blipFill>
          <a:blip r:embed="rId1"/>
          <a:stretch/>
        </p:blipFill>
        <p:spPr>
          <a:xfrm>
            <a:off x="3008160" y="3583080"/>
            <a:ext cx="312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12840" y="452520"/>
            <a:ext cx="8623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3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fusions About Print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AP)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re usually cleared up with a strong Kindergarten experienc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1982880" y="1285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santa cruz home visits 058.jpg"/>
          <p:cNvPicPr/>
          <p:nvPr/>
        </p:nvPicPr>
        <p:blipFill>
          <a:blip r:embed="rId1"/>
          <a:stretch/>
        </p:blipFill>
        <p:spPr>
          <a:xfrm>
            <a:off x="2957400" y="368136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660240" y="998640"/>
            <a:ext cx="7950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  <a:ea typeface="ヒラギノ角ゴ Pro W3"/>
              </a:rPr>
              <a:t>3.  Book and Print 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92240" y="352440"/>
            <a:ext cx="895176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ank the concepts about words from easiest to hardes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nsets &amp; rimes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yllables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honem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2520" y="990720"/>
            <a:ext cx="83674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4. Phonological Awareness: sound awareness, rhyming, allit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151272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santa cruz home visits 007.jpg"/>
          <p:cNvPicPr/>
          <p:nvPr/>
        </p:nvPicPr>
        <p:blipFill>
          <a:blip r:embed="rId1"/>
          <a:stretch/>
        </p:blipFill>
        <p:spPr>
          <a:xfrm>
            <a:off x="2982960" y="4165560"/>
            <a:ext cx="3181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225360" y="417600"/>
            <a:ext cx="883116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hildren learn upper case letters first and the most well known letter to most children is the letter that starts their nam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rue or Fal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47760" y="885960"/>
            <a:ext cx="85071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5. Alphabetic Princi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letter, sound awar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6528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sign in bloomigton"/>
          <p:cNvPicPr/>
          <p:nvPr/>
        </p:nvPicPr>
        <p:blipFill>
          <a:blip r:embed="rId1"/>
          <a:stretch/>
        </p:blipFill>
        <p:spPr>
          <a:xfrm>
            <a:off x="2627280" y="3973680"/>
            <a:ext cx="36673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304920" y="-4392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dictors of Success in Re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nderstanding the relationship between letters and s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etter knowledge and phonological awar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ize of a child’s vocabul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xpressiv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ing read to alo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articipating in interactive rea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ability to write his/her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ing Reading Difficulties in Young Children 19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book of Early Literacy Research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522360" y="260280"/>
            <a:ext cx="798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ssessments Can We Use to Determine Proficiency for Emergent Literac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pg 288-3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gsaw find one area of emergent literacy and an assessment that you use or can read ab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92240" y="417600"/>
            <a:ext cx="884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minie Reading and Writ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imary Assessmen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tence Writing and Spell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ing Inventor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ory of  Letter Knowled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sets &amp; Rim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Reading Word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w Me Boo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Rea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896160" y="5005440"/>
            <a:ext cx="1606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3520" y="380880"/>
            <a:ext cx="8381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IL  IKED  RINK  IN  GLEM  ON  A  DEW  IT HICE  INI 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92240" y="814320"/>
            <a:ext cx="88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 of Language Development (TOLD) Test of Language Development – Primary Pre-Kindergarten through fourth gra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 individually administered language battery. Ages: 4-0 through 8-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ministration Time: 1 hour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as 9 subtests that measure different components of spoken langua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icture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Understanding words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eman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ational Vocabular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Mediating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eman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al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Defining word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Semantic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tic Understanding  Sentence meanin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tic Comple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Sentence form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ntence Imit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Repeating sentence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d Discrimin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Noticing sound differen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Pho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onemic Analysi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egmenting word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Pho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d Articul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aying words correctl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Phonolog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279360" y="552600"/>
            <a:ext cx="85852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547640" y="81000"/>
            <a:ext cx="582804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098800" y="0"/>
            <a:ext cx="524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5522760" y="1442880"/>
            <a:ext cx="3516480" cy="28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39680" y="112680"/>
            <a:ext cx="536904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24000" y="122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alibri"/>
              </a:rPr>
              <a:t>Framework A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1000" spc="-1" strike="noStrike">
                <a:solidFill>
                  <a:srgbClr val="800080"/>
                </a:solidFill>
                <a:latin typeface="Calibri"/>
              </a:rPr>
              <a:t>(SEDL, 200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342040" y="1617840"/>
            <a:ext cx="3830400" cy="4140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24000" y="1189080"/>
            <a:ext cx="489564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ral Language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hon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sounds of the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ncluding gramm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man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ncluding word knowledge/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nguistic knowled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ability to put together or understand proper sent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ackground knowledge + linguistic knowled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nguage comprehens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23800" y="44280"/>
            <a:ext cx="76010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Framework A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(SEDL, 200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55440" y="1646280"/>
            <a:ext cx="3651480" cy="4081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635280" y="835200"/>
            <a:ext cx="528948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Written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ncepts about pri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child’s knowledge of form and purpose of written te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honeme awaren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ability to manipulate sounds in langu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phabetic princip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letters and letter combinations represent s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tter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letter appearance and s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xical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knowledge of printed wo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ipher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understanding the rules for writing and spel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ecoding skill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break sentences into words and units of mea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97000" y="254160"/>
          <a:ext cx="8550000" cy="6075360"/>
        </p:xfrm>
        <a:graphic>
          <a:graphicData uri="http://schemas.openxmlformats.org/drawingml/2006/table">
            <a:tbl>
              <a:tblPr/>
              <a:tblGrid>
                <a:gridCol w="4275000"/>
                <a:gridCol w="42750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28760" y="152280"/>
            <a:ext cx="832320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tatement 1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Calibri"/>
              </a:rPr>
              <a:t>Learning to read, like learning to talk, is a natural proc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Calibri"/>
              </a:rPr>
              <a:t>True or Fals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600200" y="19836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92200" y="1036800"/>
            <a:ext cx="805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1.  Discourse/Conversation/ Compreh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2765520" y="3649680"/>
            <a:ext cx="3230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74680" y="520560"/>
            <a:ext cx="8539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tatement 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Vocabulary is important to early reading and gaps exist across race, gender and economic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00" y="324000"/>
            <a:ext cx="887112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16:10:15Z</dcterms:created>
  <dc:creator>Rafferty Michael</dc:creator>
  <dc:description/>
  <dc:language>en-US</dc:language>
  <cp:lastModifiedBy>Rafferty Michael</cp:lastModifiedBy>
  <cp:lastPrinted>2010-09-08T13:27:38Z</cp:lastPrinted>
  <dcterms:modified xsi:type="dcterms:W3CDTF">2010-09-08T17:53:28Z</dcterms:modified>
  <cp:revision>54</cp:revision>
  <dc:subject/>
  <dc:title>RDG 568 Practicum in Reading</dc:title>
</cp:coreProperties>
</file>