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BCD08-FB1B-4902-808E-3D8872FCEF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C77A6-16F4-4251-B8C9-FEDFEA54A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each tool and practice finding the most important direction in each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C28C1-EDC0-4A89-8C60-B553EB105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C0C4E-5BE9-4553-A8EE-05869DFE6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ACCC0-D58F-44E9-A959-23886E543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F54D7-095F-4F99-91BC-253E6C545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AF1AE-DDF7-4F8E-9B5F-1B9F55403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CAE-A50C-4324-A891-9426B432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BB8-9927-4F67-B438-D8DDFE55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15C-02C9-4142-B4A2-1C88C58F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C18-101E-420B-BE22-552EE252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A7D-F2FB-40E2-BA32-B404F4CC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B3F-BF35-41C2-9C83-73B7CD37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444-D547-40E3-8D5B-64906F37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0AE-7DD2-41EC-9A79-7C658961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EE0-3AAA-4C31-9730-E03C3A3D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2E1-5CC9-414A-BEED-B42630B6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0B6-2B45-42C6-9839-820A0854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A9B-7F03-401B-9111-5DF99C35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F4CE9-786B-465A-AE43-E004AA3D33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DA6E0-F103-4A83-9241-16B3FB6A2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tting Ready fo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mergent Literacy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1360" y="744480"/>
            <a:ext cx="8832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97000" y="254160"/>
          <a:ext cx="85518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68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betic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1:21:04Z</dcterms:created>
  <dc:creator>Rafferty Michael</dc:creator>
  <dc:description/>
  <dc:language>en-US</dc:language>
  <cp:lastModifiedBy>Rafferty Michael</cp:lastModifiedBy>
  <cp:lastPrinted>2010-09-15T02:20:20Z</cp:lastPrinted>
  <dcterms:modified xsi:type="dcterms:W3CDTF">2010-09-15T02:20:32Z</dcterms:modified>
  <cp:revision>57</cp:revision>
  <dc:subject/>
  <dc:title>RDG 568 Practicum in Reading</dc:title>
</cp:coreProperties>
</file>