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C5928-BAD0-4F82-9145-EA23B8812B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C81A2-B33E-4140-9349-9F5A3603F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each tool and practice finding the most important direction in each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23049-4F0C-4DFD-BBB9-CB5F89741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 and 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pages 250-257 Jigsaw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E9057-ED8E-4A92-8AF9-840394091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freq vocab and concept vo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VT later in cou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2E50C-2E08-4F95-B249-C24409BC2A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AC90F-0B91-4C8D-9460-16BBD7108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hat principles of the Core Measures Get at these descriptors and which do no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88A46E-2634-4C3D-A31A-16479DB7E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292-60DF-4750-958C-479F1B87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C8E8-28EF-4038-A561-924037D4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406-0483-4E72-B0C3-CE2D53ED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AA31-3189-45EF-BCB9-5A997BA4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9A5-027E-4D73-8E89-BCDE5166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C23-E7A0-408D-B369-353C9DF9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BC3-DCD4-4CE3-B233-93571D49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1D0-8E30-4F21-BE54-15FD9137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E60-386E-4FF4-9DB6-F838823F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0B84-C704-4433-A524-F7B8A964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4DB-7A43-4770-98F0-AADD053C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710-AEF5-4D46-8E56-C0894304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235ED-EDD4-49FD-AD23-7DF1C4B767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E3353-381E-4A54-95B0-1DAC4A25C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DG 56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um in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tting Ready for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mergent Literacy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92240" y="417600"/>
            <a:ext cx="8847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ominie Reading and Wri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rimary Assess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ntence Writing and Spell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lling Inven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ntory of  Letter Knowl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sets &amp; Ri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e Reading Wor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w Me Boo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xt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896160" y="5005440"/>
            <a:ext cx="16063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71360" y="744480"/>
            <a:ext cx="88329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97000" y="254160"/>
          <a:ext cx="8551800" cy="6075360"/>
        </p:xfrm>
        <a:graphic>
          <a:graphicData uri="http://schemas.openxmlformats.org/drawingml/2006/table">
            <a:tbl>
              <a:tblPr/>
              <a:tblGrid>
                <a:gridCol w="4275000"/>
                <a:gridCol w="42768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phabetic Prin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600200" y="19836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92200" y="1036800"/>
            <a:ext cx="805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1.  Discourse/Conversation/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2765520" y="3649680"/>
            <a:ext cx="3230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617840" y="763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39640" y="762120"/>
            <a:ext cx="8210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2.  Vocabulary and Backgrou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ontent Placeholder 5" descr="santa cruz home visits 052.jpg"/>
          <p:cNvPicPr/>
          <p:nvPr/>
        </p:nvPicPr>
        <p:blipFill>
          <a:blip r:embed="rId1"/>
          <a:stretch/>
        </p:blipFill>
        <p:spPr>
          <a:xfrm>
            <a:off x="3008160" y="3583080"/>
            <a:ext cx="31226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1982880" y="1285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santa cruz home visits 058.jpg"/>
          <p:cNvPicPr/>
          <p:nvPr/>
        </p:nvPicPr>
        <p:blipFill>
          <a:blip r:embed="rId1"/>
          <a:stretch/>
        </p:blipFill>
        <p:spPr>
          <a:xfrm>
            <a:off x="2957400" y="3681360"/>
            <a:ext cx="3594240" cy="26956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660240" y="998640"/>
            <a:ext cx="7950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  <a:ea typeface="ヒラギノ角ゴ Pro W3"/>
              </a:rPr>
              <a:t>3.  Book and Print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2520" y="990720"/>
            <a:ext cx="83674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4. Phonological Awareness: sound awareness, rhyming, all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151272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santa cruz home visits 007.jpg"/>
          <p:cNvPicPr/>
          <p:nvPr/>
        </p:nvPicPr>
        <p:blipFill>
          <a:blip r:embed="rId1"/>
          <a:stretch/>
        </p:blipFill>
        <p:spPr>
          <a:xfrm>
            <a:off x="2982960" y="4165560"/>
            <a:ext cx="31813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47760" y="885960"/>
            <a:ext cx="850716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5. Alphabetic Princi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letter, sound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156528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sign in bloomigton"/>
          <p:cNvPicPr/>
          <p:nvPr/>
        </p:nvPicPr>
        <p:blipFill>
          <a:blip r:embed="rId1"/>
          <a:stretch/>
        </p:blipFill>
        <p:spPr>
          <a:xfrm>
            <a:off x="2627280" y="3973680"/>
            <a:ext cx="36673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304920" y="-43920"/>
            <a:ext cx="8839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dictors of Success in Rea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Understanding the relationship between letters and 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etter knowledge and phonological awar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size of a child’s 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xpressive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eing read to a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articipating in interactive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ability to write his/her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enting Reading Difficulties in Young Children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book of Early Literacy Research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522360" y="260280"/>
            <a:ext cx="7985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ssessments Can We Use to Determine Proficiency for Emergent Litera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view pg 288-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igsaw find one area of emergent literacy and an assessment that you use or can read ab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1:21:04Z</dcterms:created>
  <dc:creator>Rafferty Michael</dc:creator>
  <dc:description/>
  <dc:language>en-US</dc:language>
  <cp:lastModifiedBy>Rafferty Michael</cp:lastModifiedBy>
  <cp:lastPrinted>2010-09-15T02:20:20Z</cp:lastPrinted>
  <dcterms:modified xsi:type="dcterms:W3CDTF">2010-09-15T02:20:32Z</dcterms:modified>
  <cp:revision>57</cp:revision>
  <dc:subject/>
  <dc:title>RDG 568 Practicum in Reading</dc:title>
</cp:coreProperties>
</file>