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6FA7BE-1779-49B6-9C91-814EF9F4FE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5A93C-AF3A-4D4D-803C-2D6A64447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freq vocab and concept vo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VT later in cou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014CD-75A9-405E-B815-D785A3FD3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48B6A-9E88-4C0F-86A1-78A0B91EA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llables- part of a word that contains a vowel or vowel 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sets &amp; Rimes-initial consonant or cluster followed by vowel /spelling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nemes- smallest bit of sound with a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ssess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9A522-47E6-410D-981E-9B546EE91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hat principles of the Core Measures Get at these descriptors and which do no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6B876-AE48-488A-9DC4-403D1C8F7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this? I like drinking lemonade with ice in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as needed to decip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3D18A-0ED1-42C2-B530-2D66678FA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ment 1- Response from research: oral language develops naturally from birth; however, not all children will learn to read without proper instruction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Lyon, 1998; Pressley, 2006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ment 2 Response from research: Although dyslexia is influenced by genetics, most children with dyslexia can learn to read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Fletcher, Lyon, Fuchs, &amp; Barnes, 2007; Olson, 2006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hat needs attention in reading that isn’t necessary in speech: concept of letter vs word, directionality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hat Assessments are used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A060F-C770-4166-8A60-22D3046D2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 and 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pages 250-257 Jigsaw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44CEC-149D-4806-B576-5008DA137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next slide for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006CF-3444-4A67-A87C-D113F49BC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DB2-220C-4679-BCF0-0AE3E8B7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0992-3BE7-448A-894F-1376468A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8701-4804-439A-A5EA-F7614504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A05-5C7A-4ACA-807A-4BC5E6C8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FCDC-7B84-4D7A-80A4-9E24DFA1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65FC-9B51-42F5-A538-3D5BE432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7DBB-9A26-434F-AD70-810DF3B8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B04C-65B7-468B-8525-C3AA774E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326-3C3D-45EE-B767-B70EF431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1499-9618-4E4B-B311-4BBF5402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0CA-44CF-4228-B452-B4D33EF2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671-5265-4BBA-B15E-3748EF61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FFFF33-12BA-4CF7-97C6-F5A9A33B7B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F4A3F-F12A-4778-9F13-9E7CE70F7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DG 56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um in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undations of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617840" y="763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39640" y="762120"/>
            <a:ext cx="8210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2.  Vocabulary and Background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5" descr="santa cruz home visits 052.jpg"/>
          <p:cNvPicPr/>
          <p:nvPr/>
        </p:nvPicPr>
        <p:blipFill>
          <a:blip r:embed="rId1"/>
          <a:stretch/>
        </p:blipFill>
        <p:spPr>
          <a:xfrm>
            <a:off x="3008160" y="3583080"/>
            <a:ext cx="31226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12840" y="452520"/>
            <a:ext cx="862308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3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nfusions About Print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CAP)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re usually cleared up with a strong Kindergarten experienc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le 1"/>
          <p:cNvSpPr/>
          <p:nvPr/>
        </p:nvSpPr>
        <p:spPr>
          <a:xfrm>
            <a:off x="1982880" y="1285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santa cruz home visits 058.jpg"/>
          <p:cNvPicPr/>
          <p:nvPr/>
        </p:nvPicPr>
        <p:blipFill>
          <a:blip r:embed="rId1"/>
          <a:stretch/>
        </p:blipFill>
        <p:spPr>
          <a:xfrm>
            <a:off x="2957400" y="3681360"/>
            <a:ext cx="3594240" cy="26956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660240" y="998640"/>
            <a:ext cx="7950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  <a:ea typeface="ヒラギノ角ゴ Pro W3"/>
              </a:rPr>
              <a:t>3.  Book and Print Conce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92240" y="352440"/>
            <a:ext cx="895176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ank the concepts about words from easiest to hardes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nsets &amp; rimes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yllables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honem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2520" y="990720"/>
            <a:ext cx="83674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4. Phonological Awareness: sound awareness, rhyming, allit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151272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santa cruz home visits 007.jpg"/>
          <p:cNvPicPr/>
          <p:nvPr/>
        </p:nvPicPr>
        <p:blipFill>
          <a:blip r:embed="rId1"/>
          <a:stretch/>
        </p:blipFill>
        <p:spPr>
          <a:xfrm>
            <a:off x="2982960" y="4165560"/>
            <a:ext cx="31813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225360" y="417600"/>
            <a:ext cx="883116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hildren learn upper case letters first and the most well known letter to most children is the letter that starts their nam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rue or Fal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47760" y="885960"/>
            <a:ext cx="850716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5. Alphabetic Princi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letter, sound awar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6528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sign in bloomigton"/>
          <p:cNvPicPr/>
          <p:nvPr/>
        </p:nvPicPr>
        <p:blipFill>
          <a:blip r:embed="rId1"/>
          <a:stretch/>
        </p:blipFill>
        <p:spPr>
          <a:xfrm>
            <a:off x="2627280" y="3973680"/>
            <a:ext cx="36673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304920" y="-43920"/>
            <a:ext cx="8839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dictors of Success in Rea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Understanding the relationship between letters and so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etter knowledge and phonological aware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size of a child’s vocabul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xpressive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eing read to alo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articipating in interactive rea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ability to write his/her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venting Reading Difficulties in Young Children 19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dbook of Early Literacy Research 2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522360" y="260280"/>
            <a:ext cx="7985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ssessments Can We Use to Determine Proficiency for Emergent Literac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view pg 288-3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igsaw find one area of emergent literacy and an assessment that you use or can read abo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192240" y="417600"/>
            <a:ext cx="8847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ominie Reading and Writ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rimary Assessmen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ntence Writing and Spell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lling Inventor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ntory of  Letter Knowled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sets &amp; Rim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e Reading Word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w Me Book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xt Rea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896160" y="5005440"/>
            <a:ext cx="16063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3520" y="380880"/>
            <a:ext cx="8381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IL  IKED  RINK  IN  GLEM  ON  A  DEW  IT HICE  INI 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192240" y="814320"/>
            <a:ext cx="8829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st of Language Development (TOLD) Test of Language Development – Primary Pre-Kindergarten through fourth grad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 individually administered language battery. Ages: 4-0 through 8-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ministration Time: 1 hour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as 9 subtests that measure different components of spoken languag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icture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Understanding words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eman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ational Vocabular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Mediating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eman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ral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Defining word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Semantic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mmatic Understanding  Sentence meaning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mmatic Comple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Sentence form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ntence Imit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Repeating sentence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d Discrimin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Noticing sound differenc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Pho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onemic Analysis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egmenting word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Pho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d Articul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aying words correctl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Phonolog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279360" y="552600"/>
            <a:ext cx="858528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547640" y="81000"/>
            <a:ext cx="582804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098800" y="0"/>
            <a:ext cx="524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5522760" y="1442880"/>
            <a:ext cx="3516480" cy="287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39680" y="112680"/>
            <a:ext cx="536904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24000" y="122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alibri"/>
              </a:rPr>
              <a:t>Framework A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1000" spc="-1" strike="noStrike">
                <a:solidFill>
                  <a:srgbClr val="800080"/>
                </a:solidFill>
                <a:latin typeface="Calibri"/>
              </a:rPr>
              <a:t>(SEDL, 2008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5342040" y="1617840"/>
            <a:ext cx="3830400" cy="4140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324000" y="1189080"/>
            <a:ext cx="489564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ral Language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honolo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he sounds of the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ncluding gramm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mantic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ncluding word knowledge/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nguistic knowled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he ability to put together or understand proper sent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ackground knowledge + linguistic knowled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anguage comprehensio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523800" y="44280"/>
            <a:ext cx="76010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Framework A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(SEDL, 2008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55440" y="1646280"/>
            <a:ext cx="3651480" cy="40813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635280" y="835200"/>
            <a:ext cx="528948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Written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oncepts about prin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child’s knowledge of form and purpose of written tex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honeme awarenes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ability to manipulate sounds in langua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phabetic princip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letters and letter combinations represent s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tter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letter appearance and s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xical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knowledge of printed word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ipher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understanding the rules for writing and spel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ecoding skill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break sentences into words and units of mea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97000" y="254160"/>
          <a:ext cx="8550000" cy="6075360"/>
        </p:xfrm>
        <a:graphic>
          <a:graphicData uri="http://schemas.openxmlformats.org/drawingml/2006/table">
            <a:tbl>
              <a:tblPr/>
              <a:tblGrid>
                <a:gridCol w="4275000"/>
                <a:gridCol w="42750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28760" y="152280"/>
            <a:ext cx="832320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tatement 1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5400" spc="-1" strike="noStrike">
                <a:solidFill>
                  <a:srgbClr val="000000"/>
                </a:solidFill>
                <a:latin typeface="Calibri"/>
              </a:rPr>
              <a:t>Learning to read, like learning to talk, is a natural proces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5400" spc="-1" strike="noStrike">
                <a:solidFill>
                  <a:srgbClr val="000000"/>
                </a:solidFill>
                <a:latin typeface="Calibri"/>
              </a:rPr>
              <a:t>True or Fals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600200" y="19836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92200" y="1036800"/>
            <a:ext cx="805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1.  Discourse/Conversation/ Compreh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"/>
          <p:cNvPicPr/>
          <p:nvPr/>
        </p:nvPicPr>
        <p:blipFill>
          <a:blip r:embed="rId1"/>
          <a:stretch/>
        </p:blipFill>
        <p:spPr>
          <a:xfrm>
            <a:off x="2765520" y="3649680"/>
            <a:ext cx="3230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74680" y="520560"/>
            <a:ext cx="85392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tatement 2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Vocabulary is important to early reading and gaps exist across race, gender and economic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47600" y="324000"/>
            <a:ext cx="8871120" cy="60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16:10:15Z</dcterms:created>
  <dc:creator>Rafferty Michael</dc:creator>
  <dc:description/>
  <dc:language>en-US</dc:language>
  <cp:lastModifiedBy>Rafferty Michael</cp:lastModifiedBy>
  <cp:lastPrinted>2010-09-08T13:27:38Z</cp:lastPrinted>
  <dcterms:modified xsi:type="dcterms:W3CDTF">2010-09-08T17:53:28Z</dcterms:modified>
  <cp:revision>54</cp:revision>
  <dc:subject/>
  <dc:title>RDG 568 Practicum in Reading</dc:title>
</cp:coreProperties>
</file>