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2E93B-435F-4DF4-A663-29C81943F4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2EF6F-89DF-4CE5-B4EF-B0D7662F0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76E0E-40F6-4A29-B5B1-1F36E1DE7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13C4E-95C2-4868-BC8F-53E500DF6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llables- part of a word that contains a vowel or vowel 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sets &amp; Rimes-initial consonant or cluster followed by vowel /spelling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nemes- smallest bit of sound with a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ssess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6C8E0-D7E1-495A-BBF2-3BBBFFC84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D7B80-E481-4E69-B2D1-47B9B42B8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? I like drinking lemonade with ice in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needed to deci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8A693-4098-4414-82DB-FA54209D1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1- Response from research: oral language develops naturally from birth; however, not all children will learn to read without proper instruction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Lyon, 1998; Pressley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2 Response from research: Although dyslexia is influenced by genetics, most children with dyslexia can learn to read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Fletcher, Lyon, Fuchs, &amp; Barnes, 2007; Olson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needs attention in reading that isn’t necessary in speech: concept of letter vs word, directionality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Assessments are used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F4F27-5078-43BE-9C90-E62B80D12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E4F8D-AFDD-45CA-8392-D832A8077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next slide for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7DEA6-314F-4556-9417-091E5B45B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BA0-6CF8-450E-A22C-46CD0A07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083-163A-4A90-B844-82161602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90C-9029-4F8E-91E3-E0529694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470-ABE2-4627-A6FB-1E2E56A3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34B-99AA-429A-8359-56A885B1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9F8F-2713-4200-8C9E-48A826E0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A9B-EB34-455C-9A28-B81BC165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477-A08A-43DF-9D08-7FC679F0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00B-2337-423A-BCA4-2B4FE11B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688-0063-48AC-8C72-897A5CB8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BCF-59E3-4DE7-A637-D39FAD3E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772-1424-4732-A38F-4FAFB45A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6A513-606D-48B5-A0BF-E983A13DDF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01847-C9F5-4FB0-89D6-84A21A5C8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undations of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12840" y="452520"/>
            <a:ext cx="8623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fusions About Print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AP)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re usually cleared up with a strong Kindergarten experienc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92240" y="352440"/>
            <a:ext cx="89517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ank the concepts about words from easiest to hardes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nsets &amp; rimes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yllables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honem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25360" y="417600"/>
            <a:ext cx="88311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ildren learn upper case letters first and the most well known letter to most children is the letter that starts their nam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rue or Fal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3520" y="380880"/>
            <a:ext cx="8381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IL  IKED  RINK  IN  GLEM  ON  A  DEW  IT HICE  INI 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92240" y="814320"/>
            <a:ext cx="88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of Language Development (TOLD) Test of Language Development – Primary Pre-Kindergarten through fourth gra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 individually administered language battery. Ages: 4-0 through 8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ministration Time: 1 hour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as 9 subtests that measure different components of spoken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cture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Understanding words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ational Vocabular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Mediating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al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Defin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emantic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Understanding  Sentence meanin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Comple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Sentence form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ntence Imit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Repeating sentenc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Discrimin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Noticing sound differen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nemic Analysi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gment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Articul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aying words correctl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Phonolog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279360" y="552600"/>
            <a:ext cx="85852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547640" y="81000"/>
            <a:ext cx="582804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098800" y="0"/>
            <a:ext cx="52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5522760" y="1442880"/>
            <a:ext cx="3516480" cy="28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39680" y="112680"/>
            <a:ext cx="536904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24000" y="122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Framework A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1000" spc="-1" strike="noStrike">
                <a:solidFill>
                  <a:srgbClr val="800080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342040" y="1617840"/>
            <a:ext cx="3830400" cy="4140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24000" y="1189080"/>
            <a:ext cx="489564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ral Languag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hon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sounds of th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gramm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man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word knowledge/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ability to put together or understand proper sent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ackground knowledge + 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nguage comprehens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23800" y="44280"/>
            <a:ext cx="76010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Framework A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5440" y="1646280"/>
            <a:ext cx="3651480" cy="4081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635280" y="835200"/>
            <a:ext cx="528948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Written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ncepts about pri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child’s knowledge of form and purpose of written te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honeme awaren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ability to manipulate sounds in langu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phabetic princip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s and letter combinations represent s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tt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 appearance and s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xical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knowledge of printed wo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ph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understanding the rules for writing and spel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ecoding skill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break sentences into words and units of mea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97000" y="254160"/>
          <a:ext cx="85500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50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52280"/>
            <a:ext cx="83232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1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Learning to read, like learning to talk, is a natural proc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True or Fals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74680" y="520560"/>
            <a:ext cx="8539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Vocabulary is important to early reading and gaps exist across race, gender and economic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00" y="324000"/>
            <a:ext cx="88711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16:10:15Z</dcterms:created>
  <dc:creator>Rafferty Michael</dc:creator>
  <dc:description/>
  <dc:language>en-US</dc:language>
  <cp:lastModifiedBy>Rafferty Michael</cp:lastModifiedBy>
  <cp:lastPrinted>2010-09-08T13:27:38Z</cp:lastPrinted>
  <dcterms:modified xsi:type="dcterms:W3CDTF">2010-09-08T17:53:28Z</dcterms:modified>
  <cp:revision>54</cp:revision>
  <dc:subject/>
  <dc:title>RDG 568 Practicum in Reading</dc:title>
</cp:coreProperties>
</file>