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2.wmf" ContentType="image/x-wmf"/>
  <Override PartName="/ppt/media/image13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FB2B2C-5EEC-4D1D-9B39-56D38736EB9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81D0F6-CB43-4CD4-AF44-3F43A25D4A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measure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freq vocab and concept voc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VT later in cou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1139A8-86E2-46AF-9840-0072B6D568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37E689-FBF5-4F5A-B6B3-C77C1D7CFC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llables- part of a word that contains a vowel or vowel s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sets &amp; Rimes-initial consonant or cluster followed by vowel /spelling patte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nemes- smallest bit of sound with a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ssessmen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10AB24-EC6D-470A-B7FA-8BE8BD11D0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what principles of the Core Measures Get at these descriptors and which do no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02E75B-882B-4BCB-9056-604530F19C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 this? I like drinking lemonade with ice in 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as needed to decip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9A631F-E74B-41FA-A0C6-686EB05F58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ement 1- Response from research: oral language develops naturally from birth; however, not all children will learn to read without proper instruction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(Lyon, 1998; Pressley, 2006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ement 2 Response from research: Although dyslexia is influenced by genetics, most children with dyslexia can learn to read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(Fletcher, Lyon, Fuchs, &amp; Barnes, 2007; Olson, 2006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What needs attention in reading that isn’t necessary in speech: concept of letter vs word, directionality,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What Assessments are used?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4EAD49-DA74-4FF9-AC05-4D56E27D60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measu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n and Tal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ew pages 250-257 Jigsaw Rea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BC1CE1-6959-427A-AD78-37775A687A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next slide for inf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FAE828-026B-4FB7-88B6-DBFA1ED29C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816E-23E0-4E07-8517-4D383A006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ABCA-714C-4D89-9ACB-737B6E5B6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A96A-F17B-4B22-B3A0-1E6AABB85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0548-59A8-4884-82AB-C6F1AB89E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3FB0-6B60-4BCB-B24E-C2B28EEE7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C0A7-93B3-4B7F-83C1-511417183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7427-CA84-40A0-BFA0-E136AF661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6B73-E8AB-4A63-B0AE-5FBEAEEC7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79C5-C368-453F-9EAE-715DF59F4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2935-EE45-4E90-8AC9-BC9D61D6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277A-1A7E-43B9-A72B-9056906A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E0B6-43B2-48E3-8AAC-CCFAEFF4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4060D1-7BAF-486C-99FB-051D8CEF8E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ED6011-C7DF-402B-82AF-D2245C5272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DG 56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acticum in 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lass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oundations of Litera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1617840" y="76320"/>
            <a:ext cx="5867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Defining Litera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539640" y="762120"/>
            <a:ext cx="82105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Arial"/>
              </a:rPr>
              <a:t>(Based on recommendations of National Reading Panel; National Research Council; National Academy of Science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Predictors of reading readines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2.  Vocabulary and Background Knowled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Content Placeholder 5" descr="santa cruz home visits 052.jpg"/>
          <p:cNvPicPr/>
          <p:nvPr/>
        </p:nvPicPr>
        <p:blipFill>
          <a:blip r:embed="rId1"/>
          <a:stretch/>
        </p:blipFill>
        <p:spPr>
          <a:xfrm>
            <a:off x="3008160" y="3583080"/>
            <a:ext cx="312264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312840" y="452520"/>
            <a:ext cx="8623080" cy="33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Statement 3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onfusions About Print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CAP) 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are usually cleared up with a strong Kindergarten experience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itle 1"/>
          <p:cNvSpPr/>
          <p:nvPr/>
        </p:nvSpPr>
        <p:spPr>
          <a:xfrm>
            <a:off x="1982880" y="128520"/>
            <a:ext cx="5865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Defining Litera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7" descr="santa cruz home visits 058.jpg"/>
          <p:cNvPicPr/>
          <p:nvPr/>
        </p:nvPicPr>
        <p:blipFill>
          <a:blip r:embed="rId1"/>
          <a:stretch/>
        </p:blipFill>
        <p:spPr>
          <a:xfrm>
            <a:off x="2957400" y="3681360"/>
            <a:ext cx="3594240" cy="269568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7"/>
          <p:cNvSpPr/>
          <p:nvPr/>
        </p:nvSpPr>
        <p:spPr>
          <a:xfrm>
            <a:off x="660240" y="998640"/>
            <a:ext cx="79502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c0504d"/>
                </a:solidFill>
                <a:latin typeface="Calibri"/>
              </a:rPr>
              <a:t>(</a:t>
            </a:r>
            <a:r>
              <a:rPr b="0" lang="en-US" sz="2000" spc="-1" strike="noStrike">
                <a:solidFill>
                  <a:srgbClr val="c0504d"/>
                </a:solidFill>
                <a:latin typeface="Calibri"/>
              </a:rPr>
              <a:t>Based on recommendations of National Reading Panel; National Research Council; National Academy of Science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Predictors of reading readi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Calibri"/>
                <a:ea typeface="ヒラギノ角ゴ Pro W3"/>
              </a:rPr>
              <a:t>3.  Book and Print Concep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1"/>
          <p:cNvSpPr/>
          <p:nvPr/>
        </p:nvSpPr>
        <p:spPr>
          <a:xfrm>
            <a:off x="192240" y="352440"/>
            <a:ext cx="8951760" cy="55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Statement 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Rank the concepts about words from easiest to hardes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Onsets &amp; rimes    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Syllables     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Phonem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2520" y="990720"/>
            <a:ext cx="836748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Arial"/>
              </a:rPr>
              <a:t>Based on recommendations of National Reading Panel; National Research Council; National Academy of Science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Predictors of reading readi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4. Phonological Awareness: sound awareness, rhyming, allite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itle 1"/>
          <p:cNvSpPr/>
          <p:nvPr/>
        </p:nvSpPr>
        <p:spPr>
          <a:xfrm>
            <a:off x="1512720" y="76320"/>
            <a:ext cx="5865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Defining Litera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6" descr="santa cruz home visits 007.jpg"/>
          <p:cNvPicPr/>
          <p:nvPr/>
        </p:nvPicPr>
        <p:blipFill>
          <a:blip r:embed="rId1"/>
          <a:stretch/>
        </p:blipFill>
        <p:spPr>
          <a:xfrm>
            <a:off x="2982960" y="4165560"/>
            <a:ext cx="318132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"/>
          <p:cNvSpPr/>
          <p:nvPr/>
        </p:nvSpPr>
        <p:spPr>
          <a:xfrm>
            <a:off x="225360" y="417600"/>
            <a:ext cx="883116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Statement 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hildren learn upper case letters first and the most well known letter to most children is the letter that starts their name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rue or Fals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47760" y="885960"/>
            <a:ext cx="8507160" cy="21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Arial"/>
              </a:rPr>
              <a:t>(Based on recommendations of National Reading Panel; National Research Council; National Academy of Science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Predictors of reading readi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        </a:t>
            </a:r>
            <a:r>
              <a:rPr b="0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5. Alphabetic Princi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            </a:t>
            </a:r>
            <a:r>
              <a:rPr b="0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letter, sound awar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itle 1"/>
          <p:cNvSpPr/>
          <p:nvPr/>
        </p:nvSpPr>
        <p:spPr>
          <a:xfrm>
            <a:off x="1565280" y="76320"/>
            <a:ext cx="5865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Defining Litera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sign in bloomigton"/>
          <p:cNvPicPr/>
          <p:nvPr/>
        </p:nvPicPr>
        <p:blipFill>
          <a:blip r:embed="rId1"/>
          <a:stretch/>
        </p:blipFill>
        <p:spPr>
          <a:xfrm>
            <a:off x="2627280" y="3973680"/>
            <a:ext cx="3667320" cy="27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304920" y="-43920"/>
            <a:ext cx="883908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Predictors of Success in Read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Understanding the relationship between letters and soun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Letter knowledge and phonological awarenes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he size of a child’s vocabul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xpressive langu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Being read to alou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articipating in interactive read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he ability to write his/her 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eventing Reading Difficulties in Young Children 199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ndbook of Early Literacy Research 20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"/>
          <p:cNvSpPr/>
          <p:nvPr/>
        </p:nvSpPr>
        <p:spPr>
          <a:xfrm>
            <a:off x="522360" y="260280"/>
            <a:ext cx="79851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Assessments Can We Use to Determine Proficiency for Emergent Literac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view pg 288-30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igsaw find one area of emergent literacy and an assessment that you use or can read abo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192240" y="417600"/>
            <a:ext cx="8847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Dominie Reading and Writing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Primary Assessment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ntence Writing and Spelling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pelling Inventory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ventory of  Letter Knowled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nsets &amp; Rime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re Reading Word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how Me Book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ext Read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6896160" y="5005440"/>
            <a:ext cx="1606320" cy="12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533520" y="380880"/>
            <a:ext cx="83818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IL  IKED  RINK  IN  GLEM  ON  A  DEW  IT HICE  INI T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"/>
          <p:cNvSpPr/>
          <p:nvPr/>
        </p:nvSpPr>
        <p:spPr>
          <a:xfrm>
            <a:off x="192240" y="814320"/>
            <a:ext cx="8829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st of Language Development (TOLD) Test of Language Development – Primary Pre-Kindergarten through fourth grad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n individually administered language battery. Ages: 4-0 through 8-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dministration Time: 1 hour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has 9 subtests that measure different components of spoken languag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icture Vocabulary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Understanding words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Semantic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lational Vocabulary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Mediating vocabulary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Semantic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ral Vocabulary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Defining words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     Semantics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rammatic Understanding  Sentence meaning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     Syntax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rammatic Completion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Sentence formation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Syntax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ntence Imitation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Repeating sentences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Syntax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ord Discrimination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Noticing sound differenc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Phonolo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8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honemic Analysis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Segmenting words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Phonolo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9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ord Articulation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Saying words correctly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Phonology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"/>
          <p:cNvPicPr/>
          <p:nvPr/>
        </p:nvPicPr>
        <p:blipFill>
          <a:blip r:embed="rId1"/>
          <a:stretch/>
        </p:blipFill>
        <p:spPr>
          <a:xfrm>
            <a:off x="279360" y="552600"/>
            <a:ext cx="8585280" cy="57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"/>
          <p:cNvPicPr/>
          <p:nvPr/>
        </p:nvPicPr>
        <p:blipFill>
          <a:blip r:embed="rId1"/>
          <a:stretch/>
        </p:blipFill>
        <p:spPr>
          <a:xfrm>
            <a:off x="1547640" y="81000"/>
            <a:ext cx="5828040" cy="64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2098800" y="0"/>
            <a:ext cx="5248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7" descr=""/>
          <p:cNvPicPr/>
          <p:nvPr/>
        </p:nvPicPr>
        <p:blipFill>
          <a:blip r:embed="rId1"/>
          <a:stretch/>
        </p:blipFill>
        <p:spPr>
          <a:xfrm>
            <a:off x="5522760" y="1442880"/>
            <a:ext cx="3516480" cy="2870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139680" y="112680"/>
            <a:ext cx="5369040" cy="668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324000" y="1224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Calibri"/>
              </a:rPr>
              <a:t>Framework A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 </a:t>
            </a:r>
            <a:br>
              <a:rPr sz="2800"/>
            </a:br>
            <a:r>
              <a:rPr b="0" lang="en-US" sz="1000" spc="-1" strike="noStrike">
                <a:solidFill>
                  <a:srgbClr val="800080"/>
                </a:solidFill>
                <a:latin typeface="Calibri"/>
              </a:rPr>
              <a:t>(SEDL, 2008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1"/>
          <a:stretch/>
        </p:blipFill>
        <p:spPr>
          <a:xfrm>
            <a:off x="5342040" y="1617840"/>
            <a:ext cx="3830400" cy="4140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8"/>
          <p:cNvSpPr/>
          <p:nvPr/>
        </p:nvSpPr>
        <p:spPr>
          <a:xfrm>
            <a:off x="324000" y="1189080"/>
            <a:ext cx="4895640" cy="49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Oral Language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honolog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- the sounds of the langu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ynta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- including gramma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emantic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- including word knowledge/vocabul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inguistic knowledg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- the ability to put together or understand proper sentenc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ackground knowledge + linguistic knowledg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anguage comprehension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523800" y="44280"/>
            <a:ext cx="760104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Framework A</a:t>
            </a: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 </a:t>
            </a:r>
            <a:br>
              <a:rPr sz="3600"/>
            </a:b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(SEDL, 2008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7" descr=""/>
          <p:cNvPicPr/>
          <p:nvPr/>
        </p:nvPicPr>
        <p:blipFill>
          <a:blip r:embed="rId1"/>
          <a:stretch/>
        </p:blipFill>
        <p:spPr>
          <a:xfrm>
            <a:off x="55440" y="1646280"/>
            <a:ext cx="3651480" cy="40813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8"/>
          <p:cNvSpPr/>
          <p:nvPr/>
        </p:nvSpPr>
        <p:spPr>
          <a:xfrm>
            <a:off x="3635280" y="835200"/>
            <a:ext cx="5289480" cy="57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Written Langu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oncepts about print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- child’s knowledge of form and purpose of written tex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Phoneme awarenes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- ability to manipulate sounds in languag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lphabetic principl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- letters and letter combinations represent soun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Letter knowledg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- letter appearance and sou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Lexical knowledg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- knowledge of printed word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ipher knowledg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- understanding the rules for writing and spell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Decoding skill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- break sentences into words and units of mean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297000" y="254160"/>
          <a:ext cx="8550000" cy="6075360"/>
        </p:xfrm>
        <a:graphic>
          <a:graphicData uri="http://schemas.openxmlformats.org/drawingml/2006/table">
            <a:tbl>
              <a:tblPr/>
              <a:tblGrid>
                <a:gridCol w="4275000"/>
                <a:gridCol w="4275000"/>
              </a:tblGrid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i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ess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101304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101304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28760" y="152280"/>
            <a:ext cx="8323200" cy="61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Statement 1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5400" spc="-1" strike="noStrike">
                <a:solidFill>
                  <a:srgbClr val="000000"/>
                </a:solidFill>
                <a:latin typeface="Calibri"/>
              </a:rPr>
              <a:t>Learning to read, like learning to talk, is a natural process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5400" spc="-1" strike="noStrike">
                <a:solidFill>
                  <a:srgbClr val="000000"/>
                </a:solidFill>
                <a:latin typeface="Calibri"/>
              </a:rPr>
              <a:t>True or False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1600200" y="198360"/>
            <a:ext cx="5867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Defining Litera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592200" y="1036800"/>
            <a:ext cx="8053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  <a:ea typeface="Arial"/>
              </a:rPr>
              <a:t>(Based on recommendations of National Reading Panel; National Research Council; National Academy of Sciences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Arial"/>
                <a:ea typeface="Arial"/>
              </a:rPr>
              <a:t>Predictors of reading readi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Arial"/>
              </a:rPr>
              <a:t>1.  Discourse/Conversation/ Comprehen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Content Placeholder 3" descr=""/>
          <p:cNvPicPr/>
          <p:nvPr/>
        </p:nvPicPr>
        <p:blipFill>
          <a:blip r:embed="rId1"/>
          <a:stretch/>
        </p:blipFill>
        <p:spPr>
          <a:xfrm>
            <a:off x="2765520" y="3649680"/>
            <a:ext cx="323064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274680" y="520560"/>
            <a:ext cx="85392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Statement 2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Vocabulary is important to early reading and gaps exist across race, gender and economics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47600" y="324000"/>
            <a:ext cx="8871120" cy="60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4T16:10:15Z</dcterms:created>
  <dc:creator>Rafferty Michael</dc:creator>
  <dc:description/>
  <dc:language>en-US</dc:language>
  <cp:lastModifiedBy>Rafferty Michael</cp:lastModifiedBy>
  <cp:lastPrinted>2010-09-08T13:27:38Z</cp:lastPrinted>
  <dcterms:modified xsi:type="dcterms:W3CDTF">2010-09-08T17:53:28Z</dcterms:modified>
  <cp:revision>54</cp:revision>
  <dc:subject/>
  <dc:title>RDG 568 Practicum in Reading</dc:title>
</cp:coreProperties>
</file>