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D036E-FA65-4D98-8731-00B0657087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FC8F4-1996-45D3-B55F-C65F6FBD4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9E08B-2287-4009-8DF1-8510DD909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5CD0F-2821-4565-AA2E-EA59939B3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llables- part of a word that contains a vowel or vowel 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sets &amp; Rimes-initial consonant or cluster followed by vowel /spelling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es- smallest bit of sound with a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ssess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5F083-DBDB-4069-B218-A4F0539C8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971A7-C741-4CCC-A39A-C4EF6126A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? I like drinking lemonade with ice i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eded to deci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619AA-E6DC-4175-8BB0-D3A357B6A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1- Response from research: oral language develops naturally from birth; however, not all children will learn to read without proper instruction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Lyon, 1998; Pressley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2 Response from research: Although dyslexia is influenced by genetics, most children with dyslexia can learn to rea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Fletcher, Lyon, Fuchs, &amp; Barnes, 2007; Olson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needs attention in reading that isn’t necessary in speech: concept of letter vs word, directionality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Assessments are used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AD1D4-4251-4BEE-A54B-8ED670C62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E996E-8B96-4DE5-B41F-312B1E509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next slide for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E7739-03D0-4FF8-A570-274D1682A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6CA-A757-4063-B991-C3CF0768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6B1-3E78-4AEF-A44A-1EAE0C3B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727-6C8A-4930-9E9C-EEF61381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9C7-1846-44E0-89EF-A7675660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27F-239C-4FA4-A180-A97D553F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BAA-8C62-4A58-B031-C24E3F1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C08-DFCA-4F6C-9015-260A0B8C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BB9-B2D5-4E59-A467-D250A422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D0B-A804-4F01-A6A3-CC211F8B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FDA-1B70-4B77-BE09-23A1F89E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9C2-903D-4F5C-B486-1C87120E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818-0434-4B5C-AE9B-C481CAF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72724-6E7D-4832-9547-41785DB7A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31AE7-CFBF-4A45-B36F-B16F95D61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undations of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12840" y="452520"/>
            <a:ext cx="862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fusions About Print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AP)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e usually cleared up with a strong Kindergarten experien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92240" y="352440"/>
            <a:ext cx="89517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ank the concepts about words from easiest to hardes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sets &amp; rimes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llables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hone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25360" y="417600"/>
            <a:ext cx="8831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ildren learn upper case letters first and the most well known letter to most children is the letter that starts their na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ue or 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3520" y="38088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L  IKED  RINK  IN  GLEM  ON  A  DEW  IT HICE  INI 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92240" y="814320"/>
            <a:ext cx="88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of Language Development (TOLD) Test of Language Development – Primary Pre-Kindergarten through fourth gra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 individually administered language battery. Ages: 4-0 through 8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ministration Time: 1 hour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9 subtests that measure different components of spoken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ture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Understanding words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ational Vocabula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Mediating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al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Defin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emantic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Understanding  Sentence meani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Comple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Sentence 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ntence Imit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Repeating sentenc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Discrimin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Noticing sound differen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ic Analysi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gment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Articul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aying words correctl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honolog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79360" y="552600"/>
            <a:ext cx="85852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58280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98800" y="0"/>
            <a:ext cx="52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5522760" y="1442880"/>
            <a:ext cx="35164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9680" y="112680"/>
            <a:ext cx="53690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122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Framework A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1000" spc="-1" strike="noStrike">
                <a:solidFill>
                  <a:srgbClr val="800080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42040" y="1617840"/>
            <a:ext cx="3830400" cy="41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4000" y="1189080"/>
            <a:ext cx="489564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al Languag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o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sounds of th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word knowledge/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ability to put together or understand proper sent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ckground knowledge + 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comprehens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23800" y="44280"/>
            <a:ext cx="7601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ramework 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5440" y="1646280"/>
            <a:ext cx="3651480" cy="4081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635280" y="835200"/>
            <a:ext cx="528948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Writte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cepts about pri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child’s knowledge of form and purpose of written 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oneme awaren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ability to manipulate sounds in langu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phabetic princip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s and letter combinations represent s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tt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 appearance and s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xical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knowledge of printed wo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ph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understanding the rules for writing and spe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coding ski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reak sentences into words and units of 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97000" y="254160"/>
          <a:ext cx="85500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5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52280"/>
            <a:ext cx="83232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Learning to read, like learning to talk, is a natural proc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74680" y="520560"/>
            <a:ext cx="8539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ocabulary is important to early reading and gaps exist across race, gender and economic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00" y="324000"/>
            <a:ext cx="88711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16:10:15Z</dcterms:created>
  <dc:creator>Rafferty Michael</dc:creator>
  <dc:description/>
  <dc:language>en-US</dc:language>
  <cp:lastModifiedBy>Rafferty Michael</cp:lastModifiedBy>
  <cp:lastPrinted>2010-09-08T13:27:38Z</cp:lastPrinted>
  <dcterms:modified xsi:type="dcterms:W3CDTF">2010-09-08T17:53:28Z</dcterms:modified>
  <cp:revision>54</cp:revision>
  <dc:subject/>
  <dc:title>RDG 568 Practicum in Reading</dc:title>
</cp:coreProperties>
</file>