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8C5D0-3078-4851-AA2C-6E07D3D24A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DEA50-B226-4C37-851F-AC5341C3A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each tool and practice finding the most important direction in each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AA3EA-B829-4F1E-9B77-67D619F65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B2122-2B49-4151-BCE2-BDB717ADE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35258-691B-4E16-B44E-B4FF71FA2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79138-DB4E-4A56-8D87-CEE3CB6DD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4B65A-4A3A-4A2F-880F-B246A99B7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A17-9D12-4348-BA14-F1559D0D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3E7-DF38-48A8-B9B4-4866126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5D3-B360-4F4A-BEE4-5A671398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146-F9C0-48B6-AA9B-B63F129D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136-497D-443C-A7FE-EA767125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D3D-443A-40C4-BAE1-837ADF4F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07A-8616-4460-80CA-CB9E13B7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88F-3928-4600-ABD6-0008DE17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C53-B618-479C-93CB-1EDED01E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144-19D4-4E8B-9CC9-5FEB1EE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DEA-72F4-46E2-ADDA-BFA7D1C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4BF-06D2-4BFF-B557-7C8F76A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D01D0-FF73-4728-B300-62EF2FDC0B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EB0A1-38EF-4DD2-8C83-0BE39CBD0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tting Ready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ergent Literac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1360" y="7444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000" y="254160"/>
          <a:ext cx="85518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6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betic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1:21:04Z</dcterms:created>
  <dc:creator>Rafferty Michael</dc:creator>
  <dc:description/>
  <dc:language>en-US</dc:language>
  <cp:lastModifiedBy>Rafferty Michael</cp:lastModifiedBy>
  <cp:lastPrinted>2010-09-15T02:20:20Z</cp:lastPrinted>
  <dcterms:modified xsi:type="dcterms:W3CDTF">2010-09-15T02:20:32Z</dcterms:modified>
  <cp:revision>57</cp:revision>
  <dc:subject/>
  <dc:title>RDG 568 Practicum in Reading</dc:title>
</cp:coreProperties>
</file>