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FF3DD2-D380-4BD8-8117-E7059B9C15A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BAD425-2081-4A1B-AF61-E3E63F6312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iew each tool and practice finding the most important direction in each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3BC2C5-72A1-4876-A218-F9C50A4A19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measu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rn and Tal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iew pages 250-257 Jigsaw Rea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04AFD3-5E45-4111-9BA0-09CCD4E118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measure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 freq vocab and concept voca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VT later in cou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F55129-CA06-4B04-A7CC-C3A5409DF8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8A1DCF-7CD1-4531-8816-5EF45F3506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what principles of the Core Measures Get at these descriptors and which do no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BE9E7D-2669-47D5-9972-771CA4C5DC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447B-54C8-4CC4-81D0-89F927718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255A-F7F4-4948-B50B-B029FAB5D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28F6-AC10-4666-A638-429806D9B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2230-DB0F-43A4-B86B-746968560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4E66-9CE4-41CB-94E1-FBDD048D6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153A-B69E-450E-8A37-3D2CAC9DC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5871-1A6A-4647-A9AA-CF0F9C8C5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E3B9-DC8F-420A-B2DF-E2AD7112D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FA8B-BCCC-49EA-AFCE-AF34BFD2E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ED0A-6065-4E23-B042-AE7F0B870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D204-0788-46BC-914C-4C0AB30BE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3508-4D58-453D-8710-F57009600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206B18-5EA7-4620-B6F7-C2A8E4393A5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6911D0-DAE1-4AEA-98E9-CFD229BBC6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DG 568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acticum in 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lass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Getting Ready for Assess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Emergent Literacy Assess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"/>
          <p:cNvSpPr/>
          <p:nvPr/>
        </p:nvSpPr>
        <p:spPr>
          <a:xfrm>
            <a:off x="192240" y="417600"/>
            <a:ext cx="88470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Dominie Reading and Writ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Primary Assessment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ntence Writing and Spell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pelling Inventor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ventory of  Letter Knowled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nsets &amp; Rim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re Reading Word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how Me Book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ext Rea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6896160" y="5005440"/>
            <a:ext cx="1606320" cy="12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171360" y="744480"/>
            <a:ext cx="883296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297000" y="254160"/>
          <a:ext cx="8551800" cy="6075360"/>
        </p:xfrm>
        <a:graphic>
          <a:graphicData uri="http://schemas.openxmlformats.org/drawingml/2006/table">
            <a:tbl>
              <a:tblPr/>
              <a:tblGrid>
                <a:gridCol w="4275000"/>
                <a:gridCol w="4276800"/>
              </a:tblGrid>
              <a:tr h="101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ic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sess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101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phabetic Princip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101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  <a:tr h="101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101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1600200" y="198360"/>
            <a:ext cx="5867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Defining Lite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592200" y="1036800"/>
            <a:ext cx="8053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  <a:ea typeface="Arial"/>
              </a:rPr>
              <a:t>(Based on recommendations of National Reading Panel; National Research Council; National Academy of Scienc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Arial"/>
                <a:ea typeface="Arial"/>
              </a:rPr>
              <a:t>Predictors of reading read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Arial"/>
                <a:ea typeface="Arial"/>
              </a:rPr>
              <a:t>1.  Discourse/Conversation/ Compreh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050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Content Placeholder 3" descr=""/>
          <p:cNvPicPr/>
          <p:nvPr/>
        </p:nvPicPr>
        <p:blipFill>
          <a:blip r:embed="rId1"/>
          <a:stretch/>
        </p:blipFill>
        <p:spPr>
          <a:xfrm>
            <a:off x="2765520" y="3649680"/>
            <a:ext cx="323064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617840" y="76320"/>
            <a:ext cx="5867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Defining Lite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539640" y="762120"/>
            <a:ext cx="821052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Arial"/>
              </a:rPr>
              <a:t>(Based on recommendations of National Reading Panel; National Research Council; National Academy of Scienc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Predictors of reading readin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2.  Vocabulary and Background Know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Content Placeholder 5" descr="santa cruz home visits 052.jpg"/>
          <p:cNvPicPr/>
          <p:nvPr/>
        </p:nvPicPr>
        <p:blipFill>
          <a:blip r:embed="rId1"/>
          <a:stretch/>
        </p:blipFill>
        <p:spPr>
          <a:xfrm>
            <a:off x="3008160" y="3583080"/>
            <a:ext cx="312264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itle 1"/>
          <p:cNvSpPr/>
          <p:nvPr/>
        </p:nvSpPr>
        <p:spPr>
          <a:xfrm>
            <a:off x="1982880" y="128520"/>
            <a:ext cx="5865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Defining Lite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santa cruz home visits 058.jpg"/>
          <p:cNvPicPr/>
          <p:nvPr/>
        </p:nvPicPr>
        <p:blipFill>
          <a:blip r:embed="rId1"/>
          <a:stretch/>
        </p:blipFill>
        <p:spPr>
          <a:xfrm>
            <a:off x="2957400" y="3681360"/>
            <a:ext cx="3594240" cy="269568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7"/>
          <p:cNvSpPr/>
          <p:nvPr/>
        </p:nvSpPr>
        <p:spPr>
          <a:xfrm>
            <a:off x="660240" y="998640"/>
            <a:ext cx="795024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c0504d"/>
                </a:solidFill>
                <a:latin typeface="Calibri"/>
              </a:rPr>
              <a:t>(</a:t>
            </a:r>
            <a:r>
              <a:rPr b="0" lang="en-US" sz="2000" spc="-1" strike="noStrike">
                <a:solidFill>
                  <a:srgbClr val="c0504d"/>
                </a:solidFill>
                <a:latin typeface="Calibri"/>
              </a:rPr>
              <a:t>Based on recommendations of National Reading Panel; National Research Council; National Academy of Scienc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Calibri"/>
              </a:rPr>
              <a:t>Predictors of reading read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c0504d"/>
                </a:solidFill>
                <a:latin typeface="Calibri"/>
                <a:ea typeface="ヒラギノ角ゴ Pro W3"/>
              </a:rPr>
              <a:t>3.  Book and Print Conce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2520" y="990720"/>
            <a:ext cx="8367480" cy="20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Arial"/>
              </a:rPr>
              <a:t>Based on recommendations of National Reading Panel; National Research Council; National Academy of Scienc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Predictors of reading read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4. Phonological Awareness: sound awareness, rhyming, allit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itle 1"/>
          <p:cNvSpPr/>
          <p:nvPr/>
        </p:nvSpPr>
        <p:spPr>
          <a:xfrm>
            <a:off x="1512720" y="76320"/>
            <a:ext cx="5865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Calibri"/>
              </a:rPr>
              <a:t>Defining Lite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santa cruz home visits 007.jpg"/>
          <p:cNvPicPr/>
          <p:nvPr/>
        </p:nvPicPr>
        <p:blipFill>
          <a:blip r:embed="rId1"/>
          <a:stretch/>
        </p:blipFill>
        <p:spPr>
          <a:xfrm>
            <a:off x="2982960" y="4165560"/>
            <a:ext cx="3181320" cy="23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347760" y="885960"/>
            <a:ext cx="8507160" cy="21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Arial"/>
              </a:rPr>
              <a:t>(Based on recommendations of National Reading Panel; National Research Council; National Academy of Scienc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Predictors of reading read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        </a:t>
            </a:r>
            <a:r>
              <a:rPr b="0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5. Alphabetic Princi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            </a:t>
            </a:r>
            <a:r>
              <a:rPr b="0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letter, sound awar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050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itle 1"/>
          <p:cNvSpPr/>
          <p:nvPr/>
        </p:nvSpPr>
        <p:spPr>
          <a:xfrm>
            <a:off x="1565280" y="76320"/>
            <a:ext cx="5865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Calibri"/>
              </a:rPr>
              <a:t>Defining Lite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sign in bloomigton"/>
          <p:cNvPicPr/>
          <p:nvPr/>
        </p:nvPicPr>
        <p:blipFill>
          <a:blip r:embed="rId1"/>
          <a:stretch/>
        </p:blipFill>
        <p:spPr>
          <a:xfrm>
            <a:off x="2627280" y="3973680"/>
            <a:ext cx="3667320" cy="27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304920" y="-43920"/>
            <a:ext cx="8839080" cy="67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Predictors of Success in Rea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Understanding the relationship between letters and so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Letter knowledge and phonological aware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he size of a child’s vocabul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xpressive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Being read to alo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articipating in interactive rea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he ability to write his/her n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eventing Reading Difficulties in Young Children 19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ndbook of Early Literacy Research 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1"/>
          <p:cNvSpPr/>
          <p:nvPr/>
        </p:nvSpPr>
        <p:spPr>
          <a:xfrm>
            <a:off x="522360" y="260280"/>
            <a:ext cx="79851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Assessments Can We Use to Determine Proficiency for Emergent Literac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view pg 288-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igsaw find one area of emergent literacy and an assessment that you use or can read abo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2T21:21:04Z</dcterms:created>
  <dc:creator>Rafferty Michael</dc:creator>
  <dc:description/>
  <dc:language>en-US</dc:language>
  <cp:lastModifiedBy>Rafferty Michael</cp:lastModifiedBy>
  <cp:lastPrinted>2010-09-15T02:20:20Z</cp:lastPrinted>
  <dcterms:modified xsi:type="dcterms:W3CDTF">2010-09-15T02:20:32Z</dcterms:modified>
  <cp:revision>57</cp:revision>
  <dc:subject/>
  <dc:title>RDG 568 Practicum in Reading</dc:title>
</cp:coreProperties>
</file>