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58B494-331C-49B5-B306-2156F7F4AB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E69AD2-6905-4492-A844-01783A0DA8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each tool and practice finding the most important direction in each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E6F07A-93EE-42E5-9814-8217DE29E7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measu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 and Ta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pages 250-257 Jigsaw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C0BA98-0C3A-4809-B05D-7994AE6C87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measure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freq vocab and concept voc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VT later in cou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993B94-0778-4FF0-87F6-FE8E87C8F5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8E9314-2CD0-4A6D-9CE5-CCB59E2C99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what principles of the Core Measures Get at these descriptors and which do no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BCA83C-52E5-4DEF-A473-9F93401698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7257-0665-489C-9E9D-13AA195D2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1FB1-4016-469A-A4C2-C8C643FF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6C0F-DB91-4E3F-8F08-3A5B49F28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35A3-3199-4E6F-A056-46586FC1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873C-DBDD-4842-87A8-85B1A7BC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5A82-E7D7-483F-AC46-B675510A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2981-8153-4C7A-9FBD-CF6B8725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9BE2-9DC3-49A0-9BEF-52EA8B15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8FEA-CE31-4766-9412-E0E45F1A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F1A0-EF2F-402E-8575-C4D6A323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C915-37C1-41A0-A9A1-55C90594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4C80-1392-4C72-99C1-47DDDB92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15280E-43B5-47B2-9438-D39DC3D8A7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B33E4F-5868-4F4B-98DE-38E5CC926D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DG 56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um in 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lass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etting Ready for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mergent Literacy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192240" y="417600"/>
            <a:ext cx="8847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Dominie Reading and Writ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Primary Assessme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ntence Writing and Spell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elling Invento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ventory of  Letter Knowle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sets &amp; Rim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re Reading Word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ow Me Boo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ext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6896160" y="5005440"/>
            <a:ext cx="160632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71360" y="744480"/>
            <a:ext cx="88329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97000" y="254160"/>
          <a:ext cx="8551800" cy="6075360"/>
        </p:xfrm>
        <a:graphic>
          <a:graphicData uri="http://schemas.openxmlformats.org/drawingml/2006/table">
            <a:tbl>
              <a:tblPr/>
              <a:tblGrid>
                <a:gridCol w="4275000"/>
                <a:gridCol w="4276800"/>
              </a:tblGrid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i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ss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phabetic Princip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600200" y="19836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592200" y="1036800"/>
            <a:ext cx="8053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  <a:ea typeface="Arial"/>
              </a:rPr>
              <a:t>(Based on recommendations of National Reading Panel; National Research Council; National Academy of Scienc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Arial"/>
              </a:rPr>
              <a:t>1.  Discourse/Conversation/ Compreh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3" descr=""/>
          <p:cNvPicPr/>
          <p:nvPr/>
        </p:nvPicPr>
        <p:blipFill>
          <a:blip r:embed="rId1"/>
          <a:stretch/>
        </p:blipFill>
        <p:spPr>
          <a:xfrm>
            <a:off x="2765520" y="3649680"/>
            <a:ext cx="32306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617840" y="7632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539640" y="762120"/>
            <a:ext cx="82105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(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2.  Vocabulary and Background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Content Placeholder 5" descr="santa cruz home visits 052.jpg"/>
          <p:cNvPicPr/>
          <p:nvPr/>
        </p:nvPicPr>
        <p:blipFill>
          <a:blip r:embed="rId1"/>
          <a:stretch/>
        </p:blipFill>
        <p:spPr>
          <a:xfrm>
            <a:off x="3008160" y="3583080"/>
            <a:ext cx="312264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tle 1"/>
          <p:cNvSpPr/>
          <p:nvPr/>
        </p:nvSpPr>
        <p:spPr>
          <a:xfrm>
            <a:off x="1982880" y="128520"/>
            <a:ext cx="586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santa cruz home visits 058.jpg"/>
          <p:cNvPicPr/>
          <p:nvPr/>
        </p:nvPicPr>
        <p:blipFill>
          <a:blip r:embed="rId1"/>
          <a:stretch/>
        </p:blipFill>
        <p:spPr>
          <a:xfrm>
            <a:off x="2957400" y="3681360"/>
            <a:ext cx="3594240" cy="26956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"/>
          <p:cNvSpPr/>
          <p:nvPr/>
        </p:nvSpPr>
        <p:spPr>
          <a:xfrm>
            <a:off x="660240" y="998640"/>
            <a:ext cx="79502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c0504d"/>
                </a:solidFill>
                <a:latin typeface="Calibri"/>
              </a:rPr>
              <a:t>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Predictors of reading read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  <a:ea typeface="ヒラギノ角ゴ Pro W3"/>
              </a:rPr>
              <a:t>3.  Book and Print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2520" y="990720"/>
            <a:ext cx="836748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4. Phonological Awareness: sound awareness, rhyming, allit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tle 1"/>
          <p:cNvSpPr/>
          <p:nvPr/>
        </p:nvSpPr>
        <p:spPr>
          <a:xfrm>
            <a:off x="1512720" y="76320"/>
            <a:ext cx="586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santa cruz home visits 007.jpg"/>
          <p:cNvPicPr/>
          <p:nvPr/>
        </p:nvPicPr>
        <p:blipFill>
          <a:blip r:embed="rId1"/>
          <a:stretch/>
        </p:blipFill>
        <p:spPr>
          <a:xfrm>
            <a:off x="2982960" y="4165560"/>
            <a:ext cx="318132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47760" y="885960"/>
            <a:ext cx="8507160" cy="21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(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5. Alphabetic Princi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            </a:t>
            </a: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letter, sound 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itle 1"/>
          <p:cNvSpPr/>
          <p:nvPr/>
        </p:nvSpPr>
        <p:spPr>
          <a:xfrm>
            <a:off x="1565280" y="76320"/>
            <a:ext cx="586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sign in bloomigton"/>
          <p:cNvPicPr/>
          <p:nvPr/>
        </p:nvPicPr>
        <p:blipFill>
          <a:blip r:embed="rId1"/>
          <a:stretch/>
        </p:blipFill>
        <p:spPr>
          <a:xfrm>
            <a:off x="2627280" y="3973680"/>
            <a:ext cx="366732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304920" y="-43920"/>
            <a:ext cx="883908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redictors of Success in Rea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Understanding the relationship between letters and s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Letter knowledge and phonological aware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he size of a child’s vocabul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xpressive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Being read to alo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articipating in interactive re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he ability to write his/her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venting Reading Difficulties in Young Children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ndbook of Early Literacy Research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522360" y="260280"/>
            <a:ext cx="7985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ssessments Can We Use to Determine Proficiency for Emergent Literac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view pg 288-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igsaw find one area of emergent literacy and an assessment that you use or can read ab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21:21:04Z</dcterms:created>
  <dc:creator>Rafferty Michael</dc:creator>
  <dc:description/>
  <dc:language>en-US</dc:language>
  <cp:lastModifiedBy>Rafferty Michael</cp:lastModifiedBy>
  <cp:lastPrinted>2010-09-15T02:20:20Z</cp:lastPrinted>
  <dcterms:modified xsi:type="dcterms:W3CDTF">2010-09-15T02:20:32Z</dcterms:modified>
  <cp:revision>57</cp:revision>
  <dc:subject/>
  <dc:title>RDG 568 Practicum in Reading</dc:title>
</cp:coreProperties>
</file>